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DC27-0EAC-4CAE-8A0E-F810BC41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F4CB-15F0-4922-8FA6-811E38BB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A69-5271-4955-B9E2-A64F642A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437-2EF8-46E3-9614-7EFFFE5E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34C0-0B8B-4D12-A34D-E0815800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BEB-26A5-4AD0-870A-5310EA14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7EAE-186B-49F8-8675-8E57AA55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18A7-0836-434D-8B5D-E4FD64D1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B7B-7DD6-4D61-8665-D5207B95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754-3E34-4421-BDF8-81C7DC6A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6F3-F8C9-4E26-A2B4-67EE3A5A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F5E-1C79-4339-B21C-60CEDC57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0D94-C803-44C7-99D8-8C2A5B603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143000" y="1706400"/>
            <a:ext cx="67816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00000"/>
                </a:solidFill>
                <a:latin typeface="Vivaldi"/>
              </a:rPr>
              <a:t> </a:t>
            </a:r>
            <a:r>
              <a:rPr b="0" lang="en-US" sz="20000" spc="-1" strike="noStrike">
                <a:solidFill>
                  <a:srgbClr val="c00000"/>
                </a:solidFill>
                <a:latin typeface="Vivaldi"/>
              </a:rPr>
              <a:t>AR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186000" y="2523960"/>
            <a:ext cx="14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ivaldi"/>
              </a:rPr>
              <a:t>ndret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785560" y="3057480"/>
            <a:ext cx="10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ivaldi"/>
              </a:rPr>
              <a:t>a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631920" y="374328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143000" y="1706400"/>
            <a:ext cx="67816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00000"/>
                </a:solidFill>
                <a:latin typeface="Vivaldi"/>
              </a:rPr>
              <a:t> </a:t>
            </a:r>
            <a:r>
              <a:rPr b="0" lang="en-US" sz="20000" spc="-1" strike="noStrike">
                <a:solidFill>
                  <a:srgbClr val="c00000"/>
                </a:solidFill>
                <a:latin typeface="Vivaldi"/>
              </a:rPr>
              <a:t>AR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1947600" y="3505320"/>
            <a:ext cx="14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ivaldi"/>
              </a:rPr>
              <a:t>ndret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5250600" y="3657600"/>
            <a:ext cx="10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ivaldi"/>
              </a:rPr>
              <a:t>a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5:50:22Z</dcterms:created>
  <dc:creator>Bechtel</dc:creator>
  <dc:description/>
  <dc:language>en-US</dc:language>
  <cp:lastModifiedBy>dryoung</cp:lastModifiedBy>
  <dcterms:modified xsi:type="dcterms:W3CDTF">2012-12-15T05:42:59Z</dcterms:modified>
  <cp:revision>11</cp:revision>
  <dc:subject/>
  <dc:title>PowerPoint Presentation</dc:title>
</cp:coreProperties>
</file>